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3.png" ContentType="image/png"/>
  <Override PartName="/ppt/media/image12.jpeg" ContentType="image/jpeg"/>
  <Override PartName="/ppt/media/image36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DA91-549F-443C-92D4-E2A331424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1F63-AEAB-4963-9BBC-866C3C86C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03D7-EBEA-471D-9844-5258BA85A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8571-460B-4A91-B95B-B3437B2C8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1CC8-762B-4396-8D99-0B650C900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4BFB-78E4-4C80-A64A-43E4D7C10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7D48-7778-4956-A66E-904CE4798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6C72-FD5F-4EF3-9892-21E5F0846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8546-AA85-40E3-80F8-C0220E349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2C13-9A60-4947-BEAF-43F66564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C546-49C7-4A28-A0A2-501CD062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315D-26CF-48BC-A56A-DB10C2F0F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3B7A-A630-4103-866D-09925898A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964C-7681-4CA2-B849-D3B3731B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D730-E5D4-4153-AF70-2762D802D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4463-548B-44B6-804C-AC663C75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057F-49D2-4B2A-9961-44423F434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83AA-F39C-44BC-9171-B564509A7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A67D-1FAE-4B4E-AA02-BE79EF27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A1EA-FE30-4F87-B0D3-F2DB4B0ED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AF55-948C-44A3-A062-E1603C1A7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6C6F-9F96-4454-B5D4-FA536D381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C678-74D2-4041-89F8-F33CF0C80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AEB1-61EA-4634-9F4C-15C58E942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F880-FBF1-497E-838E-EE768F628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BA60-7702-466F-9C5E-C4214B23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6606-CB5A-4DBC-BBDB-CCA97890E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50EC-3087-4670-AEF3-1F00E749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95E4-44FE-43CD-B94F-84F2281C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A3E3-25D3-40AD-8AFA-F60AAE305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B36B-A1F7-40A6-8A90-338BC25B6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DCDA-7B29-4DF9-AB39-3D993A66F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1BBB-F812-4145-96C8-306E54E0D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B6D2-D741-401F-B05A-7881F673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46EF-B040-4A55-B4BC-AC1F35BD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D56C-EC53-44F6-B85B-8AF545EF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A377-0687-40D1-A040-D28AAEAF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EAE1-8F7F-49DA-9D6D-95818F61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ED5A-8EFC-4C7B-B418-2115E6377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7ADA-A2E1-4A30-9465-54865528E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79D3-C79F-4B35-8DC0-8E3621748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9AFB-5ADA-410D-821F-3F8CB497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263-EFBC-4254-B17E-44E2DD58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6539-7EAA-41BB-A16A-C8F79386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B602-3715-4263-9D57-100FEF50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6645-C28B-4CC4-BB38-7E3444F1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FDE0-BD3A-40B8-8BB8-8F65E9F28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CCB-E568-4CC4-B834-91A14512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964-25A0-48AD-B559-167E8C5E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010-D67B-46AF-82BC-13E1BE09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633-176C-4EA0-AE33-9685471C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206-D93F-4536-9973-E55D4FF7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3BC-0330-4EE3-847D-F03A8759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4E7-2D0D-47F3-A3B5-E2068246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76C-4327-47BF-9BDA-1830B998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C30-17F2-48AC-8901-093975C5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2A7-C038-4DFD-B1B7-CD467D03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63A-B9D3-406F-ABC0-7EB7750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48C-B5BD-4471-9B61-125257FF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AA7B-9BD4-4F77-BE06-660D8EA41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K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C625-8939-4B97-8C76-63A5A06632B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ПРИМЕЊЕНА ХИРУРШКА АНАТОМИЈА ОРОФАЦИЈАЛНЕ РЕГИЈЕ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-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О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стеологија вилица, крвни судови лица и вилица, венски систем лица и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вилица, лимфни систем лица и вилица, мишићи орофацијалне региј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0" y="6424560"/>
            <a:ext cx="3774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EAF5-D2A8-4EB6-B503-48CBC414E7C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5950" t="6469" r="8013" b="6483"/>
          <a:stretch/>
        </p:blipFill>
        <p:spPr>
          <a:xfrm>
            <a:off x="2028960" y="1928880"/>
            <a:ext cx="469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0" y="6424560"/>
            <a:ext cx="3944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79D6-C531-4DBB-BCF4-E0FB490327C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rcRect l="8692" t="-916" r="9335" b="5291"/>
          <a:stretch/>
        </p:blipFill>
        <p:spPr>
          <a:xfrm>
            <a:off x="1803240" y="2041560"/>
            <a:ext cx="51609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0" y="6424560"/>
            <a:ext cx="3919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8B84-389A-436F-B396-8E9F7A24DC9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rcRect l="10443" t="0" r="0" b="2426"/>
          <a:stretch/>
        </p:blipFill>
        <p:spPr>
          <a:xfrm>
            <a:off x="2443320" y="1906560"/>
            <a:ext cx="36986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0" y="6424560"/>
            <a:ext cx="3944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ED37-2647-4E3F-9118-7BB05CA0490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rcRect l="2323" t="1136" r="4133" b="1110"/>
          <a:stretch/>
        </p:blipFill>
        <p:spPr>
          <a:xfrm>
            <a:off x="5299200" y="1365120"/>
            <a:ext cx="3681360" cy="4183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3440" y="2681280"/>
            <a:ext cx="523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ртеријски крвоток лица и вилица потиче из </a:t>
            </a:r>
            <a:r>
              <a:rPr b="0" i="1" lang="sr-CS" sz="2000" spc="-1" strike="noStrike">
                <a:solidFill>
                  <a:srgbClr val="ff0000"/>
                </a:solidFill>
                <a:latin typeface="Palatino Linotype"/>
              </a:rPr>
              <a:t>а. 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carotis communis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носно из њених завршних грана 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a.carotis interna et extern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 кoje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стају у висини горње ивице тиреоидне хрскав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B37D-F8DE-4A0C-B99D-FC3BEF0D71A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99960" y="2205000"/>
            <a:ext cx="4795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Carotis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надбева крвљу мозак и чуло вида. Најзначајнија бочна грана је </a:t>
            </a:r>
            <a:r>
              <a:rPr b="0" i="1" lang="sr-CS" sz="2000" spc="-1" strike="noStrike">
                <a:solidFill>
                  <a:srgbClr val="ff0000"/>
                </a:solidFill>
                <a:latin typeface="Palatino Linotype"/>
              </a:rPr>
              <a:t>а.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ophtalmica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а се завршава на корену носа као 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dorsalis nasi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анастомозира се са </a:t>
            </a:r>
            <a:r>
              <a:rPr b="0" i="1" lang="sr-CS" sz="2000" spc="-1" strike="noStrike">
                <a:solidFill>
                  <a:srgbClr val="ff0000"/>
                </a:solidFill>
                <a:latin typeface="Palatino Linotype"/>
              </a:rPr>
              <a:t>а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ngularis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што представља анастомозу између спољне и унутрашње артер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a.carotis interna.jpg"/>
          <p:cNvPicPr/>
          <p:nvPr/>
        </p:nvPicPr>
        <p:blipFill>
          <a:blip r:embed="rId1"/>
          <a:stretch/>
        </p:blipFill>
        <p:spPr>
          <a:xfrm>
            <a:off x="5124600" y="1690560"/>
            <a:ext cx="378432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0" y="6424560"/>
            <a:ext cx="3867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6BC4-4D6C-4348-B1E4-0C8E6F0CBCD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163440" y="2104920"/>
            <a:ext cx="47689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Carotis ex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скуларизује део врата и главу (осим мозга, ока и унутрашњег ува). Пружа се од горње ивице тиреоидне хрскавице д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рата доње вилиц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где даје своје завршне г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Content Placeholder 8" descr="220px-External_carotid_artery.png"/>
          <p:cNvPicPr/>
          <p:nvPr/>
        </p:nvPicPr>
        <p:blipFill>
          <a:blip r:embed="rId1"/>
          <a:stretch/>
        </p:blipFill>
        <p:spPr>
          <a:xfrm>
            <a:off x="4933800" y="2041560"/>
            <a:ext cx="362772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0" y="6424560"/>
            <a:ext cx="38275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6AE8-6B1D-4D4D-9616-DEF716805FD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25600" y="1698480"/>
            <a:ext cx="6215040" cy="54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Бочне гране спољне каротидне 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ртер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thyroideа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a. lingu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a. fac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pharyngea asce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occipi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auricularis 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675320" y="2324160"/>
            <a:ext cx="42051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1C1F-F519-4340-A0EC-401B73904CD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A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76280" y="1741320"/>
            <a:ext cx="819144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Lingu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скуларизује језик и подјезични преде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Бочне гр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r. suprahyoid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rr. dorsales li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Завршне г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а.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sublingualis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под уста, сублингвалну жлезду и френулу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profunda lingue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тело и врх је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4F15-FA3F-46C9-A949-CB6D0333FA7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36680" y="1914480"/>
            <a:ext cx="567684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Faci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ња ивица мандибуле дели је на вратни део и део предела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ратни део има две лучне кривине, док се у области лица пружа косо навише, преко периоста мандибуле и напред према углу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кa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завршавајући се као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а.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ngularis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image508"/>
          <p:cNvPicPr/>
          <p:nvPr/>
        </p:nvPicPr>
        <p:blipFill>
          <a:blip r:embed="rId1"/>
          <a:srcRect l="4321" t="-1219" r="13443" b="8680"/>
          <a:stretch/>
        </p:blipFill>
        <p:spPr>
          <a:xfrm>
            <a:off x="6338880" y="1703520"/>
            <a:ext cx="280512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38275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48BE-38CB-46F3-B9CC-1A5C2E75A6B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463680" y="1703520"/>
            <a:ext cx="7966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Faci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Бочне г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palatina asce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submen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rr. gland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labialis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labialis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ight Brace 7"/>
          <p:cNvSpPr/>
          <p:nvPr/>
        </p:nvSpPr>
        <p:spPr>
          <a:xfrm>
            <a:off x="2787480" y="3821040"/>
            <a:ext cx="201960" cy="500040"/>
          </a:xfrm>
          <a:custGeom>
            <a:avLst/>
            <a:gdLst>
              <a:gd name="textAreaLeft" fmla="*/ 0 w 201960"/>
              <a:gd name="textAreaRight" fmla="*/ 72720 w 201960"/>
              <a:gd name="textAreaTop" fmla="*/ 5040 h 500040"/>
              <a:gd name="textAreaBottom" fmla="*/ 4950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3114720" y="3870360"/>
            <a:ext cx="26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circulus arteriosis 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514440" y="4923000"/>
            <a:ext cx="824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ртерија лица се завршава као </a:t>
            </a: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а.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angularis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а прави анастомозу са </a:t>
            </a: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а.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dorsalis nasi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40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9B70-C744-497E-892B-B0388A591DD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76360" y="1841400"/>
            <a:ext cx="7891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Palatino Linotype"/>
              </a:rPr>
              <a:t>MAXILLA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  (</a:t>
            </a: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ГОРЊА ВИЛ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рна кост, састављена од тела  и 4 наставка: чеоног, јабучног, непчаног и алвеоларног помоћу којих се повезује са суседним костима лица и супротном горњом вили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:\Users\Zoran\Downloads\anestezija\maxilla1.gif"/>
          <p:cNvPicPr/>
          <p:nvPr/>
        </p:nvPicPr>
        <p:blipFill>
          <a:blip r:embed="rId1"/>
          <a:stretch/>
        </p:blipFill>
        <p:spPr>
          <a:xfrm>
            <a:off x="1830240" y="3808440"/>
            <a:ext cx="55483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0" y="6424560"/>
            <a:ext cx="3852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52E5-FC51-4516-B6BA-44005DA65B1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0" name="Picture 11" descr="image510"/>
          <p:cNvPicPr/>
          <p:nvPr/>
        </p:nvPicPr>
        <p:blipFill>
          <a:blip r:embed="rId1"/>
          <a:srcRect l="7975" t="-1805" r="7351" b="0"/>
          <a:stretch/>
        </p:blipFill>
        <p:spPr>
          <a:xfrm>
            <a:off x="6062760" y="2141640"/>
            <a:ext cx="3081240" cy="32256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8"/>
          <p:cNvSpPr/>
          <p:nvPr/>
        </p:nvSpPr>
        <p:spPr>
          <a:xfrm>
            <a:off x="438120" y="1941480"/>
            <a:ext cx="5573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У висини врата мандибуле спољна каротидна артерија се рачва на две завршне г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Palatino Linotype"/>
              </a:rPr>
              <a:t>a. maxil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a. temporalis superfici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1EE7-425D-4604-B638-4B731C10348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A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" name="Picture 11" descr="image510"/>
          <p:cNvPicPr/>
          <p:nvPr/>
        </p:nvPicPr>
        <p:blipFill>
          <a:blip r:embed="rId1"/>
          <a:srcRect l="7975" t="-1805" r="7351" b="0"/>
          <a:stretch/>
        </p:blipFill>
        <p:spPr>
          <a:xfrm>
            <a:off x="6062760" y="2141640"/>
            <a:ext cx="3081240" cy="32256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8"/>
          <p:cNvSpPr/>
          <p:nvPr/>
        </p:nvSpPr>
        <p:spPr>
          <a:xfrm>
            <a:off x="431640" y="1623960"/>
            <a:ext cx="58564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Maxil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ача завршна грана од изузетног значаја с обзиром на регију коју снадбевља крвљу, као и на сложеност грађе и велики број грана које наста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874800" y="3943440"/>
            <a:ext cx="522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чиње у висини врата мандибуле и идући унутра и напред долази до сфенопалатинског отвора, где се завршава као сфенопалатинска артерија пролазећи највећим делом  кроз птеригопалатинску ја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0" y="6424560"/>
            <a:ext cx="3879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C8EE-DAAB-4665-82B0-F9626E59D14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3" name="Picture 11" descr="image510"/>
          <p:cNvPicPr/>
          <p:nvPr/>
        </p:nvPicPr>
        <p:blipFill>
          <a:blip r:embed="rId1"/>
          <a:srcRect l="7975" t="-1805" r="7351" b="0"/>
          <a:stretch/>
        </p:blipFill>
        <p:spPr>
          <a:xfrm>
            <a:off x="6062760" y="2141640"/>
            <a:ext cx="3081240" cy="32256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8"/>
          <p:cNvSpPr/>
          <p:nvPr/>
        </p:nvSpPr>
        <p:spPr>
          <a:xfrm>
            <a:off x="263520" y="1533600"/>
            <a:ext cx="57610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опографски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0" i="1" lang="sr-Latn-RS" sz="2000" spc="-1" strike="noStrike">
                <a:solidFill>
                  <a:srgbClr val="000000"/>
                </a:solidFill>
                <a:latin typeface="Palatino Linotype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xillaris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а три де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1)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pars mandibularis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очне гране: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auricularis profunda, a.tympanica anterior, a. meningea media, r.meningea accessorius et a.alveolaris inf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2)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pars pterygoidea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masseterica, a.temporalis anterior et a. temporalis profunda,rr.pterygoidei et a. bucc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3)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pars pterygopalatin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alveolaris superior posterior, a. infraorbitalis, a. palatina descedens, a. canalis pterygoidei,  a. pharyngea sup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BBE5-DCD0-4A55-8B24-2B826818CA9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9" name="Picture 11" descr="image510"/>
          <p:cNvPicPr/>
          <p:nvPr/>
        </p:nvPicPr>
        <p:blipFill>
          <a:blip r:embed="rId1"/>
          <a:srcRect l="7975" t="-1805" r="7351" b="0"/>
          <a:stretch/>
        </p:blipFill>
        <p:spPr>
          <a:xfrm>
            <a:off x="6062760" y="2141640"/>
            <a:ext cx="3081240" cy="32256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7"/>
          <p:cNvSpPr/>
          <p:nvPr/>
        </p:nvSpPr>
        <p:spPr>
          <a:xfrm>
            <a:off x="212760" y="1641600"/>
            <a:ext cx="633888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alveolaris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ваја се од почетног дела стабла, иде измеђ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нутрашње стране рамуса и средишњег птер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оидног мишића и кроз мандибуларни о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ази у мандибуларни кан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Бочне гране:</a:t>
            </a: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mylohioidea, rr. diploici, rr.alveola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rr.dentales, rr.gingivales, aa. interalveo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вршне гране: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incisiva, a. mental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1A1-2536-43A9-90E1-0717CE1EA5B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A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463680" y="1641600"/>
            <a:ext cx="79740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alveolaris superior pos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ваја се у висини тубера максиле, иде напред и надо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чва се на више малих завршних грана које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кроз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r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lveolar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туберу улазе у вилични синус, где исхрањуј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његову слузоко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вршне гране: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rr. dentale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ст, горње бочне зуб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       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rr. gingivale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сни, периост и образни миши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CC6C-DE16-4702-8078-29F91064AF4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501480" y="1778040"/>
            <a:ext cx="81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1" i="1" lang="sr-Latn-CS" sz="2400" spc="-1" strike="noStrike">
                <a:solidFill>
                  <a:srgbClr val="000000"/>
                </a:solidFill>
                <a:latin typeface="Palatino Linotype"/>
              </a:rPr>
              <a:t>Infraorbit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601560" y="2397240"/>
            <a:ext cx="8204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аз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оз фисур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orbitali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inferior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чну дупљ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де иде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нфраорбиталним сулкусом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тим улаз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фраорбитални канал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ијем се предњем отвор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рана у завршне гра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 ње потич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rr.alveolares superiores anteriores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је се одвајају у канал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азе у максиларни синус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исхрањују део слузокоже синуса, очњак и секутић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вршне гра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a.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infraorbitali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храњују доњи очни капак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ж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кожно ткиво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мишиће у пределу образ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3FCA-1C19-4A1B-B967-99BDEF21153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71600" y="1782720"/>
            <a:ext cx="77198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A.palatina descendens</a:t>
            </a:r>
            <a:r>
              <a:rPr b="0" lang="sr-Latn-CS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одвај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теригопалатинској јам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илази кроз велики непчани отвор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де се дели на завршне гра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a.palatinu major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aa.palatinae minore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A.palatina major</a:t>
            </a:r>
            <a:r>
              <a:rPr b="0" lang="sr-Latn-CS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лази кроз велики непчани отвор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де преко коштаног непц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 секутићне јам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де се анастомозира с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тоименом артеријом супротне стра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aa.nasales posteriores septi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лика непчана артериј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налази у делу непц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де алвеоларни наставак прелаз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хоризонтални део тврдог непц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ртерије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palatinae minores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лазе кроз мале непчане отвор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 исхрањују меко непц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део непчаног крајник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D864-1FA2-4272-814F-16E80590F66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н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31920" y="2327400"/>
            <a:ext cx="53067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Вене лица и вилица углавном прате одговарајуће артерије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Сабирна заједничка вена лица је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sr-Latn-CS" sz="2800" spc="-1" strike="noStrike">
                <a:solidFill>
                  <a:srgbClr val="00ccff"/>
                </a:solidFill>
                <a:latin typeface="Palatino Linotype"/>
              </a:rPr>
              <a:t>v.facialis communis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која се улива у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sr-Latn-CS" sz="2800" spc="-1" strike="noStrike">
                <a:solidFill>
                  <a:srgbClr val="00ccff"/>
                </a:solidFill>
                <a:latin typeface="Palatino Linotype"/>
              </a:rPr>
              <a:t>v.jugularis interna</a:t>
            </a:r>
            <a:r>
              <a:rPr b="0" i="1" lang="sr-Latn-C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C:\Users\Zoran\Downloads\oralna hirurgija\slike\ve.bmp"/>
          <p:cNvPicPr/>
          <p:nvPr/>
        </p:nvPicPr>
        <p:blipFill>
          <a:blip r:embed="rId1"/>
          <a:stretch/>
        </p:blipFill>
        <p:spPr>
          <a:xfrm>
            <a:off x="5599080" y="2133720"/>
            <a:ext cx="32670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9" descr=""/>
          <p:cNvPicPr/>
          <p:nvPr/>
        </p:nvPicPr>
        <p:blipFill>
          <a:blip r:embed="rId1"/>
          <a:stretch/>
        </p:blipFill>
        <p:spPr>
          <a:xfrm>
            <a:off x="6029280" y="233532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22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87AC-CE0D-4ECC-876F-5670659AC5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н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488880" y="1728720"/>
            <a:ext cx="8217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77920" y="1595520"/>
            <a:ext cx="62053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Њене притоке су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ccff"/>
                </a:solidFill>
                <a:latin typeface="Palatino Linotype"/>
              </a:rPr>
              <a:t>V.facialis</a:t>
            </a:r>
            <a:r>
              <a:rPr b="0" i="1" lang="sr-Latn-CS" sz="22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сабира крв предела чел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ока и нос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Она је пратиља артерије лиц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, a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почиње као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v.angularis.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Њене притоке су фронталне вене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вене доњег очног капк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вене горње и доње усне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подбрадна и подвилична вен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ccff"/>
                </a:solidFill>
                <a:latin typeface="Palatino Linotype"/>
              </a:rPr>
              <a:t>V.retromandibularis</a:t>
            </a:r>
            <a:r>
              <a:rPr b="0" i="1" lang="sr-Latn-CS" sz="2200" spc="-1" strike="noStrike">
                <a:solidFill>
                  <a:srgbClr val="000000"/>
                </a:solidFill>
                <a:latin typeface="Palatino Linotype"/>
              </a:rPr>
              <a:t> –</a:t>
            </a:r>
            <a:r>
              <a:rPr b="0" i="1" lang="sr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настаје у паротидној ложи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спајањем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200" spc="-1" strike="noStrike">
                <a:solidFill>
                  <a:srgbClr val="00ccff"/>
                </a:solidFill>
                <a:latin typeface="Palatino Linotype"/>
              </a:rPr>
              <a:t>v.temporalis superficialis</a:t>
            </a:r>
            <a:r>
              <a:rPr b="0" i="1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CS" sz="22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200" spc="-1" strike="noStrike">
                <a:solidFill>
                  <a:srgbClr val="00ccff"/>
                </a:solidFill>
                <a:latin typeface="Palatino Linotype"/>
              </a:rPr>
              <a:t>v.maxillaris interne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која представља главни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изводник крви из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200" spc="-1" strike="noStrike" u="sng">
                <a:solidFill>
                  <a:srgbClr val="00ccff"/>
                </a:solidFill>
                <a:uFillTx/>
                <a:latin typeface="Palatino Linotype"/>
              </a:rPr>
              <a:t>plexusa pterygoideusa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a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 који је од посебног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клиничког значај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j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ер комуницира са горњим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сагиталним и кавернозним синусом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20A7-FC1A-4B76-B1B2-705B999246A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476280" y="1728720"/>
            <a:ext cx="721512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ERVUS TRIGEMINUS</a:t>
            </a:r>
            <a:r>
              <a:rPr b="1" i="1" lang="sr-CS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Његов већи сензитивни део инервиш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жу лица и извесних делова лоб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пољашњу и средње опну очне јабуч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лузокожу носа и параназалних си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лузокожу усне шупљ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е горње и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ње две трећине је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имично спољашњи ушни канал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о бубне оп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5460840" y="2087640"/>
            <a:ext cx="36831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6C1D-D0AF-405F-AC3A-74C83C91661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01480" y="1854360"/>
            <a:ext cx="8217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ТЕЛО ГОРЊЕ ВИ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4 Стране: предња, задња, горња (орбитална) и унутрашња ст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1843200" y="3260880"/>
            <a:ext cx="5610240" cy="27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8E54-CAF7-4AC9-A2DF-06E763E3C92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525600" y="1941480"/>
            <a:ext cx="809280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Његов мањи моторни део инервиш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m. tempor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m. mass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m. pterygoideus med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m. pterygoideus later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600px-Mandibularis.gif"/>
          <p:cNvPicPr/>
          <p:nvPr/>
        </p:nvPicPr>
        <p:blipFill>
          <a:blip r:embed="rId1"/>
          <a:stretch/>
        </p:blipFill>
        <p:spPr>
          <a:xfrm>
            <a:off x="4394160" y="2313000"/>
            <a:ext cx="4032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ED4B-859C-4B4F-AE01-C2C34AC6B4A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7" name="Picture 7" descr="imagesCA3KJF6I.jpg"/>
          <p:cNvPicPr/>
          <p:nvPr/>
        </p:nvPicPr>
        <p:blipFill>
          <a:blip r:embed="rId1"/>
          <a:stretch/>
        </p:blipFill>
        <p:spPr>
          <a:xfrm>
            <a:off x="5349960" y="1459080"/>
            <a:ext cx="3074760" cy="39956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8"/>
          <p:cNvSpPr/>
          <p:nvPr/>
        </p:nvSpPr>
        <p:spPr>
          <a:xfrm>
            <a:off x="538200" y="1954080"/>
            <a:ext cx="477360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предње испупчене ивице Гасеровог ганглиона настају три сензитивне завршне гра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ophtalmi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axil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andibu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D0C1-F9AA-4C35-A4F5-6ADB7F99A50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501480" y="1778040"/>
            <a:ext cx="815364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Palatino Linotype"/>
              </a:rPr>
              <a:t>N. Ophtalm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fron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lacrim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nasocili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600px-Augennerven.jpg"/>
          <p:cNvPicPr/>
          <p:nvPr/>
        </p:nvPicPr>
        <p:blipFill>
          <a:blip r:embed="rId1"/>
          <a:stretch/>
        </p:blipFill>
        <p:spPr>
          <a:xfrm>
            <a:off x="3718080" y="1979640"/>
            <a:ext cx="470520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>
            <a:off x="5673600" y="2646360"/>
            <a:ext cx="3470400" cy="3522600"/>
          </a:xfrm>
          <a:prstGeom prst="rect">
            <a:avLst/>
          </a:prstGeom>
          <a:ln w="0">
            <a:noFill/>
          </a:ln>
        </p:spPr>
      </p:pic>
      <p:sp>
        <p:nvSpPr>
          <p:cNvPr id="256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041-12AD-46A6-A4B2-0E92F641562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476280" y="1652760"/>
            <a:ext cx="643716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. MAXIL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руга завршна грана, најслабијег промера и искључиво сензитивног к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средњој лобањској јами одваја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се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eningeus medius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и инервише околни део тврде мождане оп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теригопалатинској јами одвајају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 zygomati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n. alveolares superiores pos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 infraorbi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"/>
          <p:cNvPicPr/>
          <p:nvPr/>
        </p:nvPicPr>
        <p:blipFill>
          <a:blip r:embed="rId1"/>
          <a:srcRect l="0" t="0" r="0" b="22087"/>
          <a:stretch/>
        </p:blipFill>
        <p:spPr>
          <a:xfrm>
            <a:off x="2249640" y="3929040"/>
            <a:ext cx="390204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E3BA-499D-4521-A286-78F4E8A5473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33920" y="1547640"/>
            <a:ext cx="945108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.n. alveolares superiores pos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вајају се у инфратемпоралној јами као заједничко стабло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о појединачно стаб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горњу вилицу улазе кроз мале коштане о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и живци по изласку из каналића се спајају са средњим и предњ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ним гранчицама чинећи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горњи зубни сплет (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plexus dentalis superor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5345280" y="2368440"/>
            <a:ext cx="3798720" cy="3103560"/>
          </a:xfrm>
          <a:prstGeom prst="rect">
            <a:avLst/>
          </a:prstGeom>
          <a:ln w="0">
            <a:noFill/>
          </a:ln>
        </p:spPr>
      </p:pic>
      <p:sp>
        <p:nvSpPr>
          <p:cNvPr id="268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53BD-6ED1-4E72-B9E7-A3F5147A03C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15800" y="1657440"/>
            <a:ext cx="55278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. infraorbit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прола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 кроз доњу очну пуккотину, живац је на поду орбите, у истоименом жлебу, а затим улази у истоимени канал, који се завршава на предњој страни тела максиле инфраорбиталним отвором (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foramen infraorbitale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ликом проласка кроз канал даје бочне гра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. alveolaris superior me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r. alveolares superiores anteriores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( 5-8 mm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 инфраорбиталног     отв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D0F2-15E7-40C1-91C2-8F2A7E253E8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525600" y="1890720"/>
            <a:ext cx="810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дње горње зубне гране дају инервацију за: кутњаке, одговарајући део слузокоже и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редња горња зубна грана даје инервацију за: предкутњаке, одговарајући део кости и слузоко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ње горње зубне гране дају инервацију за: секутиће, очњак, одговарајући део кости и слузоко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горњег зубног сплета издвајају се гране за инервацију околних структура: </a:t>
            </a:r>
            <a:r>
              <a:rPr b="1" i="1" lang="sr-Latn-CS" sz="2000" spc="-1" strike="noStrike">
                <a:solidFill>
                  <a:srgbClr val="000000"/>
                </a:solidFill>
                <a:latin typeface="Palatino Linotype"/>
              </a:rPr>
              <a:t>rr.dentales, rr.alveolares,rr. gingivale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879-0BA3-4D83-AA83-DD0354DE797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01480" y="1890720"/>
            <a:ext cx="815364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ВРШНЕ ГРАНЕ ИНФАОРБИТАЛНОГ НЕР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r. palpebrales inf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r. nasales exte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r. nasales inte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r. labiale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n-infraorbitalis-ansicht-von-vorn.jpg"/>
          <p:cNvPicPr/>
          <p:nvPr/>
        </p:nvPicPr>
        <p:blipFill>
          <a:blip r:embed="rId1"/>
          <a:stretch/>
        </p:blipFill>
        <p:spPr>
          <a:xfrm>
            <a:off x="4253040" y="2320920"/>
            <a:ext cx="389412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1412-B6F7-4955-9A0D-2CB4F2AC3DD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8" name="Picture 8" descr="imagesCA7TGOQV.jpg"/>
          <p:cNvPicPr/>
          <p:nvPr/>
        </p:nvPicPr>
        <p:blipFill>
          <a:blip r:embed="rId1"/>
          <a:stretch/>
        </p:blipFill>
        <p:spPr>
          <a:xfrm>
            <a:off x="5543640" y="2367000"/>
            <a:ext cx="3600360" cy="2700360"/>
          </a:xfrm>
          <a:prstGeom prst="rect">
            <a:avLst/>
          </a:prstGeom>
          <a:ln w="0">
            <a:noFill/>
          </a:ln>
        </p:spPr>
      </p:pic>
      <p:cxnSp>
        <p:nvCxnSpPr>
          <p:cNvPr id="289" name="Straight Arrow Connector 12"/>
          <p:cNvCxnSpPr/>
          <p:nvPr/>
        </p:nvCxnSpPr>
        <p:spPr>
          <a:xfrm flipH="1">
            <a:off x="2204640" y="3130920"/>
            <a:ext cx="7135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Elbow Connector 18"/>
          <p:cNvCxnSpPr/>
          <p:nvPr/>
        </p:nvCxnSpPr>
        <p:spPr>
          <a:xfrm flipH="1" rot="16200000">
            <a:off x="-684360" y="3965040"/>
            <a:ext cx="1929240" cy="240480"/>
          </a:xfrm>
          <a:prstGeom prst="bentConnector3">
            <a:avLst>
              <a:gd name="adj1" fmla="val 60377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1" name="Rectangle 9"/>
          <p:cNvSpPr/>
          <p:nvPr/>
        </p:nvSpPr>
        <p:spPr>
          <a:xfrm>
            <a:off x="360360" y="1494000"/>
            <a:ext cx="4572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N. SPHENOPALAT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кратког пута дају завршне гране: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rr. orbitales,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</a:rPr>
              <a:t>rr.nasales posteriore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</a:rPr>
              <a:t>nn.palat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n. nasopalatinus Scarp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ервише део слузокоже између очњ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n. palatinus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ервише слузокожу тврдог непца и гингиву с палатиналне стране горњих бочних зуб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6480" y="6437160"/>
            <a:ext cx="3983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14D7-F1B3-47BF-A440-9101B12CCC4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258840" y="1270080"/>
            <a:ext cx="511632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Palatino Linotype"/>
              </a:rPr>
              <a:t>NERVUS MANDIBU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осредно по изласку из ганглиона, мандибуларни живац се спаја са моторним кореном тригеминалног живца. На тај начин, овај живац представља мешовити жива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нзитивним делом инервише: средњи део тврде мождане опне, кожу доње усне, браде, доњег дела образа, слепочног предела,предњег дела ушне шкољке,слузокожу образа,пода усне шупљине, предње две трећине језика,ко и све зубе, кост и гингиву једне половине ви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V3+=+N.+mandibularis.jpg"/>
          <p:cNvPicPr/>
          <p:nvPr/>
        </p:nvPicPr>
        <p:blipFill>
          <a:blip r:embed="rId1"/>
          <a:stretch/>
        </p:blipFill>
        <p:spPr>
          <a:xfrm>
            <a:off x="5084640" y="2008080"/>
            <a:ext cx="398952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rcRect l="52848" t="0" r="0" b="22409"/>
          <a:stretch/>
        </p:blipFill>
        <p:spPr>
          <a:xfrm>
            <a:off x="5437080" y="2479680"/>
            <a:ext cx="3706920" cy="2979720"/>
          </a:xfrm>
          <a:prstGeom prst="rect">
            <a:avLst/>
          </a:prstGeom>
          <a:ln w="0">
            <a:noFill/>
          </a:ln>
        </p:spPr>
      </p:pic>
      <p:sp>
        <p:nvSpPr>
          <p:cNvPr id="74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59D7-0570-4010-8E27-AAF64E9B95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25520" y="1603440"/>
            <a:ext cx="568800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УНУТРАШЊА СТРАНА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facies nasali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пољашњи коштани зид носне шупљ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вом зиду се отвара горњовилична шупљина преко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hiatusa semilunarisa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који се налази у нивоу средњег носног хо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вој страни се налази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sulcus palatinus major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који са истоименим жлебом на непчаној кости гради велики непчани канал кроз који пролазе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n. palatinus major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и исхрањују и инервишу меко и тврдо неп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3757-A71A-494F-8D71-5E68C2EDD97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Box 10"/>
          <p:cNvSpPr/>
          <p:nvPr/>
        </p:nvSpPr>
        <p:spPr>
          <a:xfrm>
            <a:off x="476280" y="1481040"/>
            <a:ext cx="8166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торни  делом инервише: мастикаторне мишиће и миши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ји ембриолошки припадају првом шкржном лу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 свог почетка овај живац силази по дну лобањске јаме, коју напушта кроз овални отв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што прође кроз овај отвор живац улази у инфратемпоралну јаму и , после кратког пута од 4-5мм, даје своје две завршне г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предњу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задњу завршну гра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"/>
          <p:cNvSpPr/>
          <p:nvPr/>
        </p:nvSpPr>
        <p:spPr>
          <a:xfrm>
            <a:off x="225360" y="4178160"/>
            <a:ext cx="3181320" cy="952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Branches of Mandibular nerve.png"/>
          <p:cNvPicPr/>
          <p:nvPr/>
        </p:nvPicPr>
        <p:blipFill>
          <a:blip r:embed="rId1"/>
          <a:stretch/>
        </p:blipFill>
        <p:spPr>
          <a:xfrm>
            <a:off x="4724280" y="3679920"/>
            <a:ext cx="293688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459C-70B0-4CC1-9863-DB7E0387AF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525600" y="1428840"/>
            <a:ext cx="785484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редња завршна г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ежно моторна и одмах у инфратемпоралној јами даје већи број грана: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temporalis profundus anterior,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buccalis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temporalis profundus medius, n.temporalis profundus posterior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asseteric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Palatino Linotype"/>
              </a:rPr>
              <a:t>N. Bucc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илази испред спољашњег птеригоидног мишића, прелази преко предње ивице рамуса у висини гризних површина горњих зуба при полуотвореним устима, и долази на спољашњу страну образног мишића. Ту живац даје кожне гране за инервацију дела коже образа и слузокожне гране које инервишу слузокожу усне дупље у образном пределу.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C0F7-3DB8-415F-9623-FB49ECDF625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476280" y="1716120"/>
            <a:ext cx="82548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Задња завршна г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ежно сензитивна и већег промера од предње завршне г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дња завршна грана даје: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auriculotemporalis,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 alveolaris inferi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 ligualis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и мишићне гране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pterigoideus medialis, n. tensor veli palatini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tensor tympa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n-mandibularis.jpg"/>
          <p:cNvPicPr/>
          <p:nvPr/>
        </p:nvPicPr>
        <p:blipFill>
          <a:blip r:embed="rId1"/>
          <a:stretch/>
        </p:blipFill>
        <p:spPr>
          <a:xfrm>
            <a:off x="3255840" y="3511440"/>
            <a:ext cx="273204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E695-F75B-4361-AB48-DC64F87AD94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514440" y="1716120"/>
            <a:ext cx="73641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Palatino Linotype"/>
              </a:rPr>
              <a:t>N. Alveolaris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шовита грана која својим највећим сензитивним делом инервише: доње зубе, део гингиве, кожу браде и доњу ус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торним делом инервише: милохиоидни мишић и предњи трбух дигастричног миши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BC00-A7D7-495E-8706-1BD8CDB6EE9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5" name="Picture 7" descr="imagesCAMPA7GK.jpg"/>
          <p:cNvPicPr/>
          <p:nvPr/>
        </p:nvPicPr>
        <p:blipFill>
          <a:blip r:embed="rId1"/>
          <a:srcRect l="-1591" t="7122" r="0" b="0"/>
          <a:stretch/>
        </p:blipFill>
        <p:spPr>
          <a:xfrm>
            <a:off x="2241720" y="1565280"/>
            <a:ext cx="4360680" cy="46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88C1-21A8-48DF-960D-F4DEC999028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550800" y="1565280"/>
            <a:ext cx="7778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вршне гране доњег зубног живца су: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entalis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incisiv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entalis -  rr.labiales inferiores, rr.mentales, rr.gingiv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incisivu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-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је бочне гране за инервацију очњака и секут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9" descr="imagesCA2P6X2K.jpg"/>
          <p:cNvPicPr/>
          <p:nvPr/>
        </p:nvPicPr>
        <p:blipFill>
          <a:blip r:embed="rId1"/>
          <a:stretch/>
        </p:blipFill>
        <p:spPr>
          <a:xfrm>
            <a:off x="2174760" y="2917800"/>
            <a:ext cx="466092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9BD7-31A9-4D33-BE69-4641F077741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538200" y="1828800"/>
            <a:ext cx="76532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. Lingu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грана мандибуларног живца која је искључиво сензитивна до  анастомозе са фацијалним живцем (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chorda tympani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нзитивним влакнима инервише: предње две трећине јез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лузокожу пода усне дупље, слузокожу алвеоларног гребена са језичне стране од медијалне линије до предела доњег умњ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2024-9D81-43D3-8470-914120FBED5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2198520" y="1488960"/>
            <a:ext cx="4243680" cy="48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3" name="Content Placeholder 6" descr="imagesCAJYCMTY.jpg"/>
          <p:cNvPicPr/>
          <p:nvPr/>
        </p:nvPicPr>
        <p:blipFill>
          <a:blip r:embed="rId1"/>
          <a:stretch/>
        </p:blipFill>
        <p:spPr>
          <a:xfrm>
            <a:off x="536400" y="2354400"/>
            <a:ext cx="3840480" cy="2879640"/>
          </a:xfrm>
          <a:prstGeom prst="rect">
            <a:avLst/>
          </a:prstGeom>
          <a:ln w="0">
            <a:noFill/>
          </a:ln>
        </p:spPr>
      </p:pic>
      <p:sp>
        <p:nvSpPr>
          <p:cNvPr id="344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E16B-C935-474C-9ECD-36D3533115C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imagesCADDV1AB.jpg"/>
          <p:cNvPicPr/>
          <p:nvPr/>
        </p:nvPicPr>
        <p:blipFill>
          <a:blip r:embed="rId2"/>
          <a:stretch/>
        </p:blipFill>
        <p:spPr>
          <a:xfrm>
            <a:off x="4943520" y="2336760"/>
            <a:ext cx="36511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6870-91DB-4767-9BC8-5B34A7FC8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06520" y="162072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3405240" y="1603440"/>
            <a:ext cx="2666880" cy="2181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6137280" y="1581120"/>
            <a:ext cx="2495520" cy="2143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>
            <a:off x="1774800" y="3946680"/>
            <a:ext cx="2629080" cy="2371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5"/>
          <a:stretch/>
        </p:blipFill>
        <p:spPr>
          <a:xfrm>
            <a:off x="4786200" y="3875040"/>
            <a:ext cx="259092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"/>
          <p:cNvPicPr/>
          <p:nvPr/>
        </p:nvPicPr>
        <p:blipFill>
          <a:blip r:embed="rId1"/>
          <a:srcRect l="0" t="0" r="47650" b="20258"/>
          <a:stretch/>
        </p:blipFill>
        <p:spPr>
          <a:xfrm>
            <a:off x="5560920" y="2513160"/>
            <a:ext cx="4444920" cy="3305160"/>
          </a:xfrm>
          <a:prstGeom prst="rect">
            <a:avLst/>
          </a:prstGeom>
          <a:ln w="0">
            <a:noFill/>
          </a:ln>
        </p:spPr>
      </p:pic>
      <p:sp>
        <p:nvSpPr>
          <p:cNvPr id="80" name="Date Placeholder 3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DD85-05E9-43EF-998F-0BDD1EBCA26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88880" y="1728720"/>
            <a:ext cx="74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РЕДЊИ ЗИД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facies anterior seu infraorbitali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76280" y="2620800"/>
            <a:ext cx="6099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вршина је благо конкавна и прекривена меким деловима образа који чине средњу трећину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ssa canin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над коренова премолара и очњ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ramen infraorbitale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0A64-0CB3-444E-8D78-53359469E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"/>
          <a:stretch/>
        </p:blipFill>
        <p:spPr>
          <a:xfrm>
            <a:off x="1198440" y="1488960"/>
            <a:ext cx="2590920" cy="2495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2"/>
          <a:stretch/>
        </p:blipFill>
        <p:spPr>
          <a:xfrm>
            <a:off x="4968720" y="1373040"/>
            <a:ext cx="2752920" cy="2476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3"/>
          <a:stretch/>
        </p:blipFill>
        <p:spPr>
          <a:xfrm>
            <a:off x="3013200" y="3968640"/>
            <a:ext cx="2895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4EA4-371F-4D3D-83A6-A0CCFB4DCB4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имфне жлез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Picture 6" descr="image602"/>
          <p:cNvPicPr/>
          <p:nvPr/>
        </p:nvPicPr>
        <p:blipFill>
          <a:blip r:embed="rId1"/>
          <a:srcRect l="0" t="0" r="0" b="6826"/>
          <a:stretch/>
        </p:blipFill>
        <p:spPr>
          <a:xfrm>
            <a:off x="4919760" y="1676520"/>
            <a:ext cx="4224240" cy="45432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8"/>
          <p:cNvSpPr/>
          <p:nvPr/>
        </p:nvSpPr>
        <p:spPr>
          <a:xfrm>
            <a:off x="192240" y="1892160"/>
            <a:ext cx="457200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ЛИМФНЕ ЖЛЕЗДЕ ГЛАВ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тиљач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дње врат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дње у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едње у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аротид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двилич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-6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ње и задњ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дбрад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Лимфне жлезд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ЛИМФНЕ ЖЛЕЗДЕ В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E42D-B274-4AA6-B3F8-17FF9502E63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88880" y="1690560"/>
            <a:ext cx="7074000" cy="35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ЗАДЊИ ЗИД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facies posterior seu infratempor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crista infrazygo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foramina alveo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Задњи зид максиле, својим горњим издубљен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делом учествује у изградњи предњег з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инфраорбиталне ја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rcRect l="17019" t="2029" r="15470" b="3442"/>
          <a:stretch/>
        </p:blipFill>
        <p:spPr>
          <a:xfrm>
            <a:off x="6307200" y="2104920"/>
            <a:ext cx="261144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6F78-EA7F-4CBE-92E9-6628CE5C8B5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38200" y="1766880"/>
            <a:ext cx="81295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Непчани наставак горње ви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ssa incisiva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око 10 – 15 мм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ramen incisiv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pilla inci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analis incisiv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113520" y="430848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foramen palatinum maj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1"/>
          <p:cNvCxnSpPr/>
          <p:nvPr/>
        </p:nvCxnSpPr>
        <p:spPr>
          <a:xfrm flipH="1">
            <a:off x="5096880" y="4883760"/>
            <a:ext cx="1665720" cy="802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2170080" y="4130640"/>
            <a:ext cx="3621240" cy="22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0B9B-A00B-4531-AB36-D7C4E0703AB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50720" y="1866960"/>
            <a:ext cx="83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АЛВЕОЛАРНИ НАСТАВАК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processus alveolari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rcRect l="10086" t="1406" r="12138" b="3801"/>
          <a:stretch/>
        </p:blipFill>
        <p:spPr>
          <a:xfrm>
            <a:off x="4121280" y="2417760"/>
            <a:ext cx="4867200" cy="2916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2254320" y="28684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lveoli dent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803240" y="4446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septa interalveol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2"/>
          <p:cNvSpPr/>
          <p:nvPr/>
        </p:nvSpPr>
        <p:spPr>
          <a:xfrm flipH="1" flipV="1">
            <a:off x="2292120" y="3808080"/>
            <a:ext cx="311940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4"/>
          <p:cNvSpPr/>
          <p:nvPr/>
        </p:nvSpPr>
        <p:spPr>
          <a:xfrm flipH="1">
            <a:off x="2317680" y="3432240"/>
            <a:ext cx="326880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0" y="3544920"/>
            <a:ext cx="24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septa interradicul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0" y="6424560"/>
            <a:ext cx="3840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6266-923C-444A-BE3C-421741D4376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97960" y="146520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Palatino Linotype"/>
              </a:rPr>
              <a:t>MANDIBULA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(ДОЊА ВИЛ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88960" y="2127240"/>
            <a:ext cx="816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арна кост доњег, покретног дела лица састављена од тела и две гране, на чијим завршецима се налазе по два наставка са сваке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2327400" y="2979720"/>
            <a:ext cx="40035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5:55:43Z</dcterms:modified>
  <cp:revision>909</cp:revision>
  <dc:subject/>
  <dc:title>NAZIV PREDAVANJA</dc:title>
</cp:coreProperties>
</file>